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ED0A-D9F3-42B6-8C74-8184E024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98ED-3F76-4BFD-AECC-7A777B90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2A98-901A-4AE8-8C23-E7483DB9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1F52-CFAD-4D80-9FBB-028DCF7F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43F-340A-46D1-A878-7B85646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5E0D-75A6-465F-B23C-790C3EF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1FD5-E408-48D2-91FC-D97D6A6A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1FB-8E8B-4E14-8017-339464F7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CCFC-C4DE-44F6-B1E5-C24840DA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227-FB8D-4C0C-A889-B9A7516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004-2E8D-4766-B480-A7100F1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7D4E-2BEF-4871-BF30-1BE6A9C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29EB-8619-4410-B7BE-EF429F19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5DC1-02B1-4EFB-A003-47D1C12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822-9F09-4A47-82E0-CD2A3F98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6AC-765A-4A15-ADD9-048DD25D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6225-B87E-4204-AAE8-9F63FF2D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839B-2EDC-495F-8241-875F76FD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B4A4-70EB-4349-A4A8-1E316268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993D-B7C6-47F2-8576-48347D46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8695-C1B8-4C12-AD1C-8451755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5E3E-B81C-4F35-BFB4-8D3EEBD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D625-24FE-48DD-B781-365549B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430A-A9C6-4A5F-8252-B16BD98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8E7-A3B6-49C3-A9D2-4B03A09858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73A4-1C18-4909-AD06-E71014EF31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troduciendo el Compendio de TB</a:t>
            </a:r>
            <a:r>
              <a:rPr b="0" lang="es-E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cc"/>
                </a:solidFill>
                <a:latin typeface="Tahoma"/>
              </a:rPr>
              <a:t>Para quien es el compendio (la audiencia primaria del compendio)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eñado par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directores de PNT, gerentes de bases de datos y gerentes de programas regionales y distri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ministradores de ONG internacionales o nacionales y gerentes de base de datos comprometidos en la programación de TB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pecialistas de Eval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eñadores de sistemas de salu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lquier persona con la responsabilidad de procesar, recolectar o presentar datos sobre TB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Que es el Compendi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una colección estandarizada y comprensiva de los indicadores mas usados y recomendado para la evaluación y monitoreo de T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Quien escribió el Compendio?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opilado y organizado durante 2 años por el grupo de trabajo M &amp; E de TB. Este era un grupo informal de evaluación y especialistas en TB de numerosas instituciones y países incluyendo:   OMS, “STOP TB”, IUATLD, KNCV, CDC (USA), USAID, JSI, MACRO, Universidad de Tulane, UNC- Chapel Hill, MSH, GDF, y el Banco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Los Objetivos del Compendio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bjetivo principal: estimular y facilitar el monitoreo y la evaluación interna y externa de los programas de control de la TB para mejorar la calidad y la efectivid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lista completa y estandarizada de los indicadores mas usado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basa en guías previamente establecidas y fuentes publicadas sobre selección y uso de indicadores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Objetivos Específico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veer terminología estandarizada para el monitoreo y la evaluación a través de todos los indicadores y program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mover el uso consistente de indicadores para monitorizar y evaluar programa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veer una guía para el desarrollo de planes de evaluación completa incluyendo una selección de indicadores para medir el progreso en áreas especifica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rvir como recurso para los diferentes componentes del proceso de evaluación y monitore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Como utilizar el Compend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el propósito de este taller.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ar el entendimiento y los procedimientos de monitoreo y evaluación para los programas de TB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acticar el desarrollo de marcos para la evaluació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acticar la selección de indicadores apropiad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acticar usando datos verdaderos para poner en operaciones  los indicador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acticar la presentación de los indicadores para el efecto máxim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Secciones del Compendio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inición del Monitoreo y la Evaluació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onitoreo y Evaluación de Programas de TB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dicadores para el monitoreo y evaluación de los P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10 sub-secciones de Indicad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dores del buen reporta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dicadores de Resultados del Progra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oluntad Polí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agnostico y Laboratori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nejo de Casos y Tratamiento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nejo de Medicament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orte y Documentació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per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arrollo de Recursos Humanos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s de Salu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0:35:05Z</dcterms:created>
  <dc:creator>kmacint</dc:creator>
  <dc:description/>
  <dc:language>en-US</dc:language>
  <cp:lastModifiedBy>Jessica Posner</cp:lastModifiedBy>
  <dcterms:modified xsi:type="dcterms:W3CDTF">2005-03-07T20:25:31Z</dcterms:modified>
  <cp:revision>14</cp:revision>
  <dc:subject/>
  <dc:title>Introducing the TB Compendium </dc:title>
</cp:coreProperties>
</file>